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723-3C26-4385-99D3-989A9F39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67E-66D9-42B3-A44B-4929D5A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C57-6495-46DA-8093-C57A6EB9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E29-B57B-4B67-9F6B-023F8423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A91-76A6-45F6-B915-78061665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C18C-1E3B-4D68-AD04-51AC1130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F3A-E2C7-466B-9D7C-3AB5316E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BBBC-C4A4-4676-8FB4-719742BC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FB2-E21D-42C6-B543-9048DAD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657-85F4-47EB-9F63-6D532FF3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F9D-A526-4E75-BD74-5DC329F0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167-F930-4BF8-96A3-BB4FBFC8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7687-F32D-4A5E-A067-06EAB8908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1523880"/>
            <a:ext cx="7010280" cy="4496040"/>
            <a:chOff x="1143000" y="1523880"/>
            <a:chExt cx="7010280" cy="4496040"/>
          </a:xfrm>
        </p:grpSpPr>
        <p:sp>
          <p:nvSpPr>
            <p:cNvPr id="42" name=""/>
            <p:cNvSpPr/>
            <p:nvPr/>
          </p:nvSpPr>
          <p:spPr>
            <a:xfrm>
              <a:off x="1143000" y="1523880"/>
              <a:ext cx="7010280" cy="44960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80040" y="2411280"/>
              <a:ext cx="1889280" cy="2925720"/>
            </a:xfrm>
            <a:custGeom>
              <a:avLst/>
              <a:gdLst>
                <a:gd name="textAreaLeft" fmla="*/ 92160 w 1889280"/>
                <a:gd name="textAreaRight" fmla="*/ 1797120 w 1889280"/>
                <a:gd name="textAreaTop" fmla="*/ 92160 h 2925720"/>
                <a:gd name="textAreaBottom" fmla="*/ 2833560 h 2925720"/>
              </a:gdLst>
              <a:ahLst/>
              <a:rect l="textAreaLeft" t="textAreaTop" r="textAreaRight" b="textAreaBottom"/>
              <a:pathLst>
                <a:path w="21600" h="33447">
                  <a:moveTo>
                    <a:pt x="3600" y="0"/>
                  </a:moveTo>
                  <a:arcTo wR="3600" hR="3600" stAng="16200000" swAng="-5400000"/>
                  <a:lnTo>
                    <a:pt x="0" y="29847"/>
                  </a:lnTo>
                  <a:arcTo wR="3600" hR="3600" stAng="10800000" swAng="-5400000"/>
                  <a:lnTo>
                    <a:pt x="18000" y="334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2920" y="267984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2920" y="531828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12920" y="291636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" name=""/>
            <p:cNvCxnSpPr>
              <a:stCxn id="44" idx="2"/>
              <a:endCxn id="45" idx="2"/>
            </p:cNvCxnSpPr>
            <p:nvPr/>
          </p:nvCxnSpPr>
          <p:spPr>
            <a:xfrm>
              <a:off x="1312920" y="2877480"/>
              <a:ext cx="360" cy="26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8" name=""/>
            <p:cNvCxnSpPr>
              <a:stCxn id="44" idx="6"/>
              <a:endCxn id="45" idx="6"/>
            </p:cNvCxnSpPr>
            <p:nvPr/>
          </p:nvCxnSpPr>
          <p:spPr>
            <a:xfrm>
              <a:off x="3282840" y="2877480"/>
              <a:ext cx="360" cy="26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" name=""/>
            <p:cNvSpPr/>
            <p:nvPr/>
          </p:nvSpPr>
          <p:spPr>
            <a:xfrm>
              <a:off x="1447920" y="2276640"/>
              <a:ext cx="1726920" cy="30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Us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5800" y="3809880"/>
              <a:ext cx="1476360" cy="2764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Tracker 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58800" y="4259160"/>
              <a:ext cx="1478160" cy="440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w Tab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TrackedEcho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49" idx="2"/>
              <a:endCxn id="50" idx="0"/>
            </p:cNvCxnSpPr>
            <p:nvPr/>
          </p:nvCxnSpPr>
          <p:spPr>
            <a:xfrm>
              <a:off x="2311200" y="2583720"/>
              <a:ext cx="12960" cy="122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" name=""/>
            <p:cNvSpPr/>
            <p:nvPr/>
          </p:nvSpPr>
          <p:spPr>
            <a:xfrm>
              <a:off x="1805040" y="568008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Datab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51400" y="4316400"/>
              <a:ext cx="2135160" cy="3070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Tracker Algorithm(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54" idx="1"/>
              <a:endCxn id="51" idx="3"/>
            </p:cNvCxnSpPr>
            <p:nvPr/>
          </p:nvCxnSpPr>
          <p:spPr>
            <a:xfrm flipH="1">
              <a:off x="3036960" y="4469760"/>
              <a:ext cx="514800" cy="97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57" idx="3"/>
              <a:endCxn id="54" idx="1"/>
            </p:cNvCxnSpPr>
            <p:nvPr/>
          </p:nvCxnSpPr>
          <p:spPr>
            <a:xfrm flipV="1">
              <a:off x="3036960" y="4469760"/>
              <a:ext cx="514800" cy="6289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headEnd len="med" type="triangle" w="med"/>
            </a:ln>
          </p:spPr>
        </p:cxnSp>
        <p:cxnSp>
          <p:nvCxnSpPr>
            <p:cNvPr id="58" name=""/>
            <p:cNvCxnSpPr>
              <a:stCxn id="50" idx="3"/>
              <a:endCxn id="54" idx="0"/>
            </p:cNvCxnSpPr>
            <p:nvPr/>
          </p:nvCxnSpPr>
          <p:spPr>
            <a:xfrm>
              <a:off x="3062160" y="3948120"/>
              <a:ext cx="1557000" cy="36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>
              <a:off x="6243480" y="3992400"/>
              <a:ext cx="15908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311960" y="3992400"/>
              <a:ext cx="577800" cy="70812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243480" y="2568600"/>
              <a:ext cx="1517760" cy="1239480"/>
              <a:chOff x="6243480" y="2568600"/>
              <a:chExt cx="1517760" cy="1239480"/>
            </a:xfrm>
          </p:grpSpPr>
          <p:pic>
            <p:nvPicPr>
              <p:cNvPr id="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43480" y="2568600"/>
                <a:ext cx="1517760" cy="121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288840" y="2614320"/>
                <a:ext cx="1002240" cy="119376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45720" y="3165480"/>
                <a:ext cx="501120" cy="642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" name=""/>
            <p:cNvCxnSpPr>
              <a:stCxn id="54" idx="3"/>
              <a:endCxn id="63" idx="2"/>
            </p:cNvCxnSpPr>
            <p:nvPr/>
          </p:nvCxnSpPr>
          <p:spPr>
            <a:xfrm flipV="1">
              <a:off x="5686560" y="3211200"/>
              <a:ext cx="602640" cy="12589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54" idx="3"/>
              <a:endCxn id="64" idx="2"/>
            </p:cNvCxnSpPr>
            <p:nvPr/>
          </p:nvCxnSpPr>
          <p:spPr>
            <a:xfrm flipV="1">
              <a:off x="5686560" y="3486960"/>
              <a:ext cx="1559520" cy="98316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54" idx="3"/>
              <a:endCxn id="60" idx="2"/>
            </p:cNvCxnSpPr>
            <p:nvPr/>
          </p:nvCxnSpPr>
          <p:spPr>
            <a:xfrm flipV="1">
              <a:off x="5686560" y="4346640"/>
              <a:ext cx="1625760" cy="12348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1312920" y="3154320"/>
              <a:ext cx="196992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7720" y="5337000"/>
              <a:ext cx="164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Unicode MS"/>
                </a:rPr>
                <a:t>Main Disp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12920" y="5079960"/>
              <a:ext cx="1969920" cy="397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58800" y="4878360"/>
              <a:ext cx="1478160" cy="440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New Tab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Unicode MS"/>
                </a:rPr>
                <a:t>Trac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66880" y="1614600"/>
              <a:ext cx="39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3333cc"/>
                  </a:solidFill>
                  <a:uFillTx/>
                  <a:latin typeface="Arial Unicode MS"/>
                </a:rPr>
                <a:t>Data Flow - High Level Overvi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3352680"/>
              <a:ext cx="1724040" cy="520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Signal Proces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(Sonar OCX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2" idx="2"/>
              <a:endCxn id="54" idx="0"/>
            </p:cNvCxnSpPr>
            <p:nvPr/>
          </p:nvCxnSpPr>
          <p:spPr>
            <a:xfrm>
              <a:off x="4616280" y="3872880"/>
              <a:ext cx="2880" cy="44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3754440" y="2590920"/>
              <a:ext cx="1724040" cy="3070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Sonar Ping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>
              <a:stCxn id="74" idx="2"/>
              <a:endCxn id="72" idx="0"/>
            </p:cNvCxnSpPr>
            <p:nvPr/>
          </p:nvCxnSpPr>
          <p:spPr>
            <a:xfrm>
              <a:off x="4616280" y="2898000"/>
              <a:ext cx="360" cy="455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3657600" y="5029200"/>
              <a:ext cx="1905120" cy="307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ports / Cou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>
              <a:off x="4610160" y="4623480"/>
              <a:ext cx="9000" cy="40608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7:29:03Z</dcterms:created>
  <dc:creator>robert</dc:creator>
  <dc:description/>
  <dc:language>en-US</dc:language>
  <cp:lastModifiedBy>robert</cp:lastModifiedBy>
  <dcterms:modified xsi:type="dcterms:W3CDTF">2002-08-16T20:42:29Z</dcterms:modified>
  <cp:revision>5</cp:revision>
  <dc:subject/>
  <dc:title>PowerPoint Presentation</dc:title>
</cp:coreProperties>
</file>